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523-6F69-4436-8CC9-2EBE9E48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F9E-2CC0-45F6-AC95-05CF1F16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13A-2968-451C-81B0-C78460B9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D69-5C17-4424-9731-B8F4D906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5F9-F9BA-4681-938A-EEC2CB86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A4A-5660-4816-ACF9-9CAA535A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64E-4115-4609-8B5C-72340D6E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41F-59FB-4E51-8F5C-F1AD6F04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0C4-1176-4986-B690-16CE7A1B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8CF-D74B-4B31-8CA3-D406BDCC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5E0-0225-4EAC-A04E-6A459901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195-0834-4485-B88A-FC07A14F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ffccff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EB20-603B-4F72-BEBD-79DE2D73F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missouri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states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7777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86600" y="5334120"/>
            <a:ext cx="18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li Lamb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1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228600"/>
            <a:ext cx="67820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prstDash val="dash"/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ssouri</a:t>
            </a:r>
            <a:endParaRPr b="0" lang="en-US" sz="1800" spc="1" strike="noStrike">
              <a:ln w="12600">
                <a:solidFill>
                  <a:srgbClr val="ffffff"/>
                </a:solidFill>
                <a:prstDash val="dash"/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5715000"/>
            <a:ext cx="3429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ouri Song: Fifty State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ssou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October 25, 2011 http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//www.50states.com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ital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efferson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pula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5,988,9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ered The Un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8/10/1821 (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to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us Populi Suprema lex 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welfare of the people shall be supreme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knam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w-m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w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wthorn (crataeg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r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ue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ssouri Wal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ing Behind Nam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amed after Algonquin indian term meaning “river of the big cano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ting Fact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oca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38.57 N, 92.19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eral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alena (lead)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ock/Ston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zark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28600"/>
            <a:ext cx="4757760" cy="4237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p of the state Missou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51055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 from 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ou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28600" y="4191120"/>
            <a:ext cx="3048120" cy="1776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3429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Missouri state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All images Copyright © 1997 - 2000 WriteLine. All Rights Reserved. Jefferson City Capitol"/>
          <p:cNvPicPr/>
          <p:nvPr/>
        </p:nvPicPr>
        <p:blipFill>
          <a:blip r:embed="rId1"/>
          <a:stretch/>
        </p:blipFill>
        <p:spPr>
          <a:xfrm>
            <a:off x="0" y="914400"/>
            <a:ext cx="7620120" cy="47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49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picture of Missouri’s Capital, Jefferson 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019920"/>
            <a:ext cx="8229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ssou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October 25, 201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stcardsfrom.com/t1/99101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All images Copyright © 1997 - 2000 WriteLine. All Rights Reserved. Saint Louis Arch"/>
          <p:cNvPicPr/>
          <p:nvPr/>
        </p:nvPicPr>
        <p:blipFill>
          <a:blip r:embed="rId1"/>
          <a:stretch/>
        </p:blipFill>
        <p:spPr>
          <a:xfrm>
            <a:off x="152280" y="101520"/>
            <a:ext cx="5410440" cy="360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ll images Copyright © 1997 - 2000 WriteLine. All Rights Reserved. conservatory"/>
          <p:cNvPicPr/>
          <p:nvPr/>
        </p:nvPicPr>
        <p:blipFill>
          <a:blip r:embed="rId2"/>
          <a:stretch/>
        </p:blipFill>
        <p:spPr>
          <a:xfrm>
            <a:off x="4495680" y="3733920"/>
            <a:ext cx="4496040" cy="2997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03848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ssour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October 25, 2011, http://www.postcardsfrom.com/t1/991011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56386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picture of The Jewel Box in Park Forest, 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447920"/>
            <a:ext cx="76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410160" y="1447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99072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picture of the St. Louis Ar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1Z</dcterms:created>
  <dc:creator>install</dc:creator>
  <dc:description/>
  <dc:language>en-US</dc:language>
  <cp:lastModifiedBy>install</cp:lastModifiedBy>
  <dcterms:modified xsi:type="dcterms:W3CDTF">2011-10-26T13:55:59Z</dcterms:modified>
  <cp:revision>9</cp:revision>
  <dc:subject/>
  <dc:title>Slide 1</dc:title>
</cp:coreProperties>
</file>